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B01-E191-40D7-8E70-3A98A506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85E-2D17-463A-99DF-01F2CF28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9E1-98EA-4766-AA43-4F9AC8DE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E70-411F-43AB-8D45-E8EBA72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0AF-F094-42F5-BBD9-B4C0644B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19A-A6A5-4B90-9EBE-9D87418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243-FB1C-42CF-98AC-2D95B50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F57-D6FE-4B32-AA20-088850E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223-CAC8-4E69-AB8D-6C38A50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0D1-467C-4262-BE11-ACAC17D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DB7-BA3A-4F32-B6CB-8BF72B6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935-8EB7-4BD7-8F8F-FB0F2AB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5856-31C5-4D68-977A-EBF2753BC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5829120" cy="1524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Migrazion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44953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blematiche del confront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’Al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bio D’And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e migrazioni son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582912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netrazione dell’Altro nel cuore dell’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heimat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bbligo conseguente di confro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os’è Altr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603864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to ciò che minaccia l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olidità dell’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termine di paragone che può mettere in crisi l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riduzioni strumentali della realtà (cultur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mostrazione concreta dell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relatività dei propri val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l razzismo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a tipologia di incapacità di confronto con l’Altro centrata sul fattore ra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290240" y="380880"/>
            <a:ext cx="4262040" cy="2638800"/>
            <a:chOff x="1290240" y="380880"/>
            <a:chExt cx="4262040" cy="2638800"/>
          </a:xfrm>
        </p:grpSpPr>
        <p:sp>
          <p:nvSpPr>
            <p:cNvPr id="66" name=""/>
            <p:cNvSpPr/>
            <p:nvPr/>
          </p:nvSpPr>
          <p:spPr>
            <a:xfrm>
              <a:off x="2287440" y="380880"/>
              <a:ext cx="2184840" cy="70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Razzism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0400" y="12189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0240" y="2438280"/>
              <a:ext cx="42620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Altro = diverso per razz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055960" y="3352680"/>
            <a:ext cx="30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Ma anch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960" y="4648320"/>
            <a:ext cx="1753560" cy="2181600"/>
            <a:chOff x="228960" y="4648320"/>
            <a:chExt cx="1753560" cy="2181600"/>
          </a:xfrm>
        </p:grpSpPr>
        <p:sp>
          <p:nvSpPr>
            <p:cNvPr id="71" name=""/>
            <p:cNvSpPr/>
            <p:nvPr/>
          </p:nvSpPr>
          <p:spPr>
            <a:xfrm>
              <a:off x="838080" y="464832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960" y="6248520"/>
              <a:ext cx="175356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Per stat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284920" y="6705720"/>
            <a:ext cx="1913400" cy="2028960"/>
            <a:chOff x="2284920" y="6705720"/>
            <a:chExt cx="1913400" cy="2028960"/>
          </a:xfrm>
        </p:grpSpPr>
        <p:sp>
          <p:nvSpPr>
            <p:cNvPr id="74" name=""/>
            <p:cNvSpPr/>
            <p:nvPr/>
          </p:nvSpPr>
          <p:spPr>
            <a:xfrm>
              <a:off x="3047760" y="670572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4920" y="8153280"/>
              <a:ext cx="1913400" cy="5814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Per gen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94600" y="5105520"/>
            <a:ext cx="2105640" cy="2516400"/>
            <a:chOff x="4494600" y="5105520"/>
            <a:chExt cx="2105640" cy="2516400"/>
          </a:xfrm>
        </p:grpSpPr>
        <p:sp>
          <p:nvSpPr>
            <p:cNvPr id="77" name=""/>
            <p:cNvSpPr/>
            <p:nvPr/>
          </p:nvSpPr>
          <p:spPr>
            <a:xfrm>
              <a:off x="5227560" y="51055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4600" y="6553080"/>
              <a:ext cx="2105640" cy="106884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clinazion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914400"/>
            <a:ext cx="6095880" cy="990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840" y="914400"/>
            <a:ext cx="612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Times New Roman"/>
              </a:rPr>
              <a:t>Migrazione = Pericolo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8360" y="2514600"/>
            <a:ext cx="8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86200"/>
            <a:ext cx="58672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3720" y="4724280"/>
            <a:ext cx="568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metodologie di confront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ltro non sono disponibili, 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arenze del processo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ocializzaz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a per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ebole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ell’apparato valori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l processo di socializzazione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58291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rocesso attraverso il quale il singolo vien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stituito come membro di una socie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divide nelle due fasi di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pprend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nteriorizzaz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ante le quali vengono trasmessi al socializzando modelli di comportamento e val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11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Gli agenti di socializzazione son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4038120"/>
            <a:ext cx="5829120" cy="37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istituzioni primarie e secondarie a cui è affidato il compito di socializzare gli individui nell’arco della loro v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1600200"/>
            <a:ext cx="5456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i agenti di social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dizionali vivono un momento di crisi. I compiti ad essi affid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ngono svolti da ista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l cui ruolo è di norma tutt’altro, come ad esempio i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edi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media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e l’Alt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chema utilitaristico e strumentale dei processi di interazione include l’altro solo come personaggio, come funzione, come atteggiamento. L’altro è l’elemento parziale che lo rappresenta in una determinata situazione e che non ha quasi alcuna relazione con l’individualità alla quale si riferisc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. Mongar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ossibili strategie di risposta al razzism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582912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ruzione culturale de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alore dell’altru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o di socializzazione centrato sull’interiorizzazione de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alore della transcu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aggiamento all’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sperienza diretta dell’Al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a cultura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58291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lt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raverso il quale i membri di una data società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mplificano ed organizzano la conoscenza del re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compone di valori, istituzioni, modelli di comportamento e cost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a transcultura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838080"/>
            <a:ext cx="5829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567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582912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struzione di un </a:t>
            </a:r>
            <a:r>
              <a:rPr b="0" lang="it-IT" sz="3200" spc="-1" strike="noStrike">
                <a:solidFill>
                  <a:srgbClr val="008000"/>
                </a:solidFill>
                <a:latin typeface="Times New Roman"/>
              </a:rPr>
              <a:t>modello culturale innovativo e condivis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non solo fondato sulla sommatoria integrata di culture diver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 valori son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3809520"/>
            <a:ext cx="58291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unti di rifer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l’azione individu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ssi struttura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 una cultura. Variano da cultura a cultura e nel corso del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1252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a persona sociale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5829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spetto dell’uomo messo in evidenza a fini di studio dalla sociologia, aspetto che privilegi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’agire nella società per la soddisfazione dei bisog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l gruppo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582912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insieme di individui in reciproco rapporto tra loro in quanto portatori di determinati interessi e/o valori comuni, la cui azione è diretta a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seguimento di un comune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 bisogni son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5829120" cy="37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to ciò che spinge l’uomo all’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o ad oggi è invalsa un’interpretazione del termine connotata in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ermini esclusivamente econom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 bisogni non utilitaristici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58291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inio della realtà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duzione di s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esione del grupp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struzione dell’identità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L’azione dotata di senso è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582912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sequenza di mosse aventi per fine la soddisfazione di un bisogno, che si struttura in base alla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siderazione dell’opinione degli altri circa le mosse stes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829120" cy="1524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Le categorie dell’azione secondo Weber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58291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Azione razionale rispetto allo sc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Azione razionale rispetto al val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Azione tradi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Azione emo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11:06:10Z</dcterms:created>
  <dc:creator>Fabio D'Andrea</dc:creator>
  <dc:description/>
  <dc:language>en-US</dc:language>
  <cp:lastModifiedBy>Fabio D'Andrea</cp:lastModifiedBy>
  <dcterms:modified xsi:type="dcterms:W3CDTF">1998-04-27T20:45:04Z</dcterms:modified>
  <cp:revision>13</cp:revision>
  <dc:subject/>
  <dc:title>Migrazion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c6148@mclink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pagine\osr\progetti\presRaz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