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0E9-5357-4F63-A979-0D398354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36FF-615A-4BD1-A89F-9D2655BC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5BF-B179-4AA5-8386-EDBD5B54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EFB-D1A4-4D91-80C0-F91897B9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817-363B-4BD3-81CF-D2176F5E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640-5F37-4484-A78D-15269411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715E-5BF1-4400-BF96-5CCDFE27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3C21-7C4E-4EA9-988B-0079D4AD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B13-6564-4204-A664-FB6D3872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283-92AA-4781-A87B-11002E98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6077-46A1-4D50-9A63-05022492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FD2-943C-4B31-9759-8A0BB8A8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3F1F-5BA2-4F54-BEA4-A82E51CA5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. Fabio D’And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artimento di Scienze Umane e della 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à degli Studi di Peru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Definizione di struttura – T. Par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11280" y="1341360"/>
          <a:ext cx="4540320" cy="51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341360"/>
                    <a:ext cx="454032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finizione di struttura – V. Cesare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08000" y="1413000"/>
          <a:ext cx="5256360" cy="49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413000"/>
                    <a:ext cx="5256360" cy="49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zione di azione – M. We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340000" y="1413000"/>
          <a:ext cx="442440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413000"/>
                    <a:ext cx="44244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 dell’azione – M. We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16000" y="1844640"/>
          <a:ext cx="71136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844640"/>
                    <a:ext cx="71136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ano invisibile: Sm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340000" y="1268280"/>
          <a:ext cx="445752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268280"/>
                    <a:ext cx="445752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’azione economica relazionale: Rif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411280" y="1341360"/>
          <a:ext cx="431352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341360"/>
                    <a:ext cx="431352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’è la soci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79480" y="2092320"/>
          <a:ext cx="5583240" cy="35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9480" y="2092320"/>
                    <a:ext cx="558324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ine o cont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154240" y="1600200"/>
          <a:ext cx="48355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4240" y="1600200"/>
                    <a:ext cx="48355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ttura o 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627280" y="1628640"/>
          <a:ext cx="406728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628640"/>
                    <a:ext cx="406728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i esponenti emblemat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771640" y="1628640"/>
          <a:ext cx="357192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628640"/>
                    <a:ext cx="357192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 diverse concezioni antropologich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40000" y="1557360"/>
          <a:ext cx="48546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557360"/>
                    <a:ext cx="48546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uomo contraddittor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556000" y="2060640"/>
          <a:ext cx="4038480" cy="36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060640"/>
                    <a:ext cx="403848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995640" y="1773360"/>
            <a:ext cx="1008000" cy="9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zione “neutrale” di strut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308320" y="1600200"/>
          <a:ext cx="4525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8320" y="1600200"/>
                    <a:ext cx="4525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Definizione di struttura – Karl Mar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68360" y="1413000"/>
          <a:ext cx="4611960" cy="49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413000"/>
                    <a:ext cx="4611960" cy="49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4:32:28Z</dcterms:created>
  <dc:creator>Fabio D'Andrea</dc:creator>
  <dc:description/>
  <dc:language>en-US</dc:language>
  <cp:lastModifiedBy>Fabio D'Andrea</cp:lastModifiedBy>
  <dcterms:modified xsi:type="dcterms:W3CDTF">2008-04-05T15:46:39Z</dcterms:modified>
  <cp:revision>5</cp:revision>
  <dc:subject/>
  <dc:title>Lezioni</dc:title>
</cp:coreProperties>
</file>