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B71-1301-4A2E-BCB9-98BE3F0E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D05-87AF-4EB4-BED4-0359B839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1FC-7A5C-4B23-8706-2513F1C9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170-2270-409D-AE64-BFB60F98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54B-C542-4F27-8245-572F3141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311-0C98-4581-BE40-3E39C4F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451-0316-4164-AF5D-8B68715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77E-F701-43D2-881D-0E28EB7B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615-D105-4020-9E2A-08F08AEE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1A7-7A11-4433-83D6-85FAD40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679-78C2-42F8-9C51-8DE548C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933-8D61-4B2F-BD5A-FFFDCD9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12CC-0F05-4587-863E-27FF817D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zion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Fabio D’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rtimento di Scienze Umane 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egli Studi di Per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modello di comportamento: Mongar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24000" y="1484280"/>
          <a:ext cx="4943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43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uolo: G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24000" y="1484280"/>
          <a:ext cx="49467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467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neutrale di istit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050920" y="1600200"/>
          <a:ext cx="499608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00200"/>
                    <a:ext cx="49960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istituzione: Bagnasco, Barbagli, Cav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95640" y="1628640"/>
          <a:ext cx="473544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28640"/>
                    <a:ext cx="473544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istituzione: Mongar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5640" y="1484280"/>
          <a:ext cx="48052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484280"/>
                    <a:ext cx="48052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fferenziazione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79600" y="1413000"/>
          <a:ext cx="42894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413000"/>
                    <a:ext cx="42894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zio sociale e val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32000" y="1341360"/>
          <a:ext cx="647532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47532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valore: Bagnasco, Barbagli, Cav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40000" y="1484280"/>
          <a:ext cx="441324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84280"/>
                    <a:ext cx="441324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di valore: Mongard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95640" y="1557360"/>
          <a:ext cx="47228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57360"/>
                    <a:ext cx="47228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mportamento e valori: Gu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65200" y="1341360"/>
          <a:ext cx="45118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341360"/>
                    <a:ext cx="45118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40000" y="1700280"/>
          <a:ext cx="4525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4525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nterfaccia cult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24000" y="1484280"/>
          <a:ext cx="49150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150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i e spazi soc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82640" y="1600200"/>
          <a:ext cx="5778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1600200"/>
                    <a:ext cx="5778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27280" y="1484280"/>
          <a:ext cx="3828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484280"/>
                    <a:ext cx="3828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tratificazione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40000" y="1341360"/>
          <a:ext cx="4511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511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tteri della stratific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35280" y="1484280"/>
          <a:ext cx="53593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84280"/>
                    <a:ext cx="53593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 di stratific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1700280"/>
          <a:ext cx="4356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4356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tatu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41560" y="1557360"/>
          <a:ext cx="51228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1557360"/>
                    <a:ext cx="51228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tatu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93960" y="1557360"/>
          <a:ext cx="534204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557360"/>
                    <a:ext cx="534204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i del ru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95640" y="1600200"/>
          <a:ext cx="48448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00200"/>
                    <a:ext cx="48448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32:28Z</dcterms:created>
  <dc:creator>Fabio D'Andrea</dc:creator>
  <dc:description/>
  <dc:language>en-US</dc:language>
  <cp:lastModifiedBy>Fabio D'Andrea</cp:lastModifiedBy>
  <dcterms:modified xsi:type="dcterms:W3CDTF">2008-04-04T13:40:09Z</dcterms:modified>
  <cp:revision>10</cp:revision>
  <dc:subject/>
  <dc:title>Lezioni</dc:title>
</cp:coreProperties>
</file>