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bin" ContentType="application/vnd.openxmlformats-officedocument.oleObject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media/image5.wmf" ContentType="image/x-wmf"/>
  <Override PartName="/ppt/media/image10.wmf" ContentType="image/x-wmf"/>
  <Override PartName="/ppt/media/image6.wmf" ContentType="image/x-wmf"/>
  <Override PartName="/ppt/media/image7.wmf" ContentType="image/x-wmf"/>
  <Override PartName="/ppt/media/image8.wmf" ContentType="image/x-wmf"/>
  <Override PartName="/ppt/media/image9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CE08F-7F9B-47B7-962F-989A3CA6A27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6E72F-9AE3-45F7-A550-7071C078A9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A8410A-27AE-403E-BBF3-B2AFFC61B9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E69B8D-8ABE-415A-84A9-C2BB7AE22C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536FE-F9ED-4858-AE94-5C133725BDE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46774A-E21D-4B20-9F74-EB06B82C22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C1F4E-D5A2-4DD3-A199-2ED37FE1E4B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BAAB2-429E-48B6-8189-8061A9456D5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35482-6C81-4E3B-9C69-910F03275F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24E1D-8D5C-43C8-B5F0-404E3BD7C7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125F57-A4C5-4F6A-BFD5-A23CA42641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09543B-D679-431B-85C6-5D11C488C36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B47BE49-DFFC-4673-8AA4-5A87C542B4C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0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.wmf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6.wmf"/><Relationship Id="rId3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ezioni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rof. Fabio D’Andre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partimento di Scienze Umane e della Formazion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Università degli Studi di Perugi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Socializzazione primaria: Cesareo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8" name=""/>
          <p:cNvGraphicFramePr/>
          <p:nvPr/>
        </p:nvGraphicFramePr>
        <p:xfrm>
          <a:off x="2268360" y="1557360"/>
          <a:ext cx="4584960" cy="4924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557360"/>
                    <a:ext cx="4584960" cy="4924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00"/>
                </a:solidFill>
                <a:latin typeface="Arial"/>
              </a:rPr>
              <a:t>Socializzazione secondaria: Cesareo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1" name=""/>
          <p:cNvGraphicFramePr/>
          <p:nvPr/>
        </p:nvGraphicFramePr>
        <p:xfrm>
          <a:off x="2373480" y="1341360"/>
          <a:ext cx="435924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73480" y="1341360"/>
                    <a:ext cx="435924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993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iverse dimensioni della 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4" name=""/>
          <p:cNvGraphicFramePr/>
          <p:nvPr/>
        </p:nvGraphicFramePr>
        <p:xfrm>
          <a:off x="2268360" y="1268280"/>
          <a:ext cx="4653000" cy="5329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268280"/>
                    <a:ext cx="4653000" cy="53294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Dalla realtà alla cultur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47" name=""/>
          <p:cNvGraphicFramePr/>
          <p:nvPr/>
        </p:nvGraphicFramePr>
        <p:xfrm>
          <a:off x="1116000" y="1268280"/>
          <a:ext cx="6723000" cy="54295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116000" y="1268280"/>
                    <a:ext cx="6723000" cy="5429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cultura: Tyl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0" name=""/>
          <p:cNvGraphicFramePr/>
          <p:nvPr/>
        </p:nvGraphicFramePr>
        <p:xfrm>
          <a:off x="1974960" y="1341360"/>
          <a:ext cx="5189400" cy="47847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1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974960" y="1341360"/>
                    <a:ext cx="5189400" cy="47847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it-IT" sz="4400" spc="-1" strike="noStrike">
                <a:solidFill>
                  <a:srgbClr val="000000"/>
                </a:solidFill>
                <a:latin typeface="Arial"/>
              </a:rPr>
              <a:t>La cultura: Malinowsk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3" name=""/>
          <p:cNvGraphicFramePr/>
          <p:nvPr/>
        </p:nvGraphicFramePr>
        <p:xfrm>
          <a:off x="2212920" y="1484280"/>
          <a:ext cx="4862520" cy="5031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12920" y="1484280"/>
                    <a:ext cx="4862520" cy="5031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ultura: We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6" name=""/>
          <p:cNvGraphicFramePr/>
          <p:nvPr/>
        </p:nvGraphicFramePr>
        <p:xfrm>
          <a:off x="2411280" y="1413000"/>
          <a:ext cx="429444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11280" y="1413000"/>
                    <a:ext cx="429444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cultura: Mori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9" name=""/>
          <p:cNvGraphicFramePr/>
          <p:nvPr/>
        </p:nvGraphicFramePr>
        <p:xfrm>
          <a:off x="2340000" y="1413000"/>
          <a:ext cx="4489560" cy="5111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413000"/>
                    <a:ext cx="4489560" cy="5111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I bisogni non economic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2268360" y="1628640"/>
          <a:ext cx="5596200" cy="45259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268360" y="1628640"/>
                    <a:ext cx="5596200" cy="4525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La socializzazione: Mongardini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65" name=""/>
          <p:cNvGraphicFramePr/>
          <p:nvPr/>
        </p:nvGraphicFramePr>
        <p:xfrm>
          <a:off x="2340000" y="1341360"/>
          <a:ext cx="4392720" cy="51120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6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340000" y="1341360"/>
                    <a:ext cx="4392720" cy="51120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0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3-09T14:32:28Z</dcterms:created>
  <dc:creator>Fabio D'Andrea</dc:creator>
  <dc:description/>
  <dc:language>en-US</dc:language>
  <cp:lastModifiedBy>Fabio D'Andrea</cp:lastModifiedBy>
  <dcterms:modified xsi:type="dcterms:W3CDTF">2009-05-25T08:08:10Z</dcterms:modified>
  <cp:revision>14</cp:revision>
  <dc:subject/>
  <dc:title>Lezioni</dc:title>
</cp:coreProperties>
</file>